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FCB-D112-4347-89BE-81759243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055-467D-4761-B1EE-59E4683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2AF-9C11-4EAC-8C5D-21875BB4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ECB-D2F3-416C-A11A-57B42C86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26B-7F33-4213-838B-0BEED948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717-C708-4BB3-8678-462D1CAE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803-DD7F-42EC-BE01-1ED74662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265-736A-43D3-AC1F-C5D74107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CD31-EE62-4469-8F01-9668C4D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10D-0D70-4CEC-9FD0-7264692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4B9-7687-41C9-9710-78B3C8B4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464-5277-43BE-93E5-3F4659E7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C88C-DE08-4B81-9B43-38A96E8F6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tocollo.gov.it/documenti/Legge%20241_1990.pd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tocollo.gov.it/documenti/Legge%20241_1990.pd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tocollo.gov.it/documenti/Legge%20241_1990.pdf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tocollo.gov.it/documenti/Legge%20241_1990.pdf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74674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Symbol" charset="2"/>
              <a:buChar char="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i conseguenza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non può essere negato al Sig. Rossi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iconoscimento di un interesse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giuridicamente rilevante nel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ichiedere la conoscenza degli atti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del Consiglio di classe, destinati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 produrre effetti sulla sfera del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iglio minore.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61976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i atti del Consiglio di classe vi sono indubbiamen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zie riguardanti altri alunni che, a norma dell’art. 2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 2, lett. d), debbono essere tutelati da riservatezza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’accesso non può evidentemente riguardare tali notizi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ciò non significa automaticamente escludere 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à di accesso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conseguenza la scuola ometterà dal testo mess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sizione del richiedente la parte riguardante gli alt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nni nonché quelle parti di carattere generale c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ano essere facilmente riconducibili ad 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o alunno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e quindi, definitivamente decidendo in riforma parziale di quanto stabilito dal T.A.R.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92504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Consiglio di Stato accoglie in parte il ricorso dell’Amministrazione ed ordina l’esibizione dei documenti con le limitazioni su esposte, compensando integralmente le spese del doppio grado di giudizio a causa dell’ampiezza della domanda di esibizione non del tutto giustific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a Procura della Corte dei Conti, accertato che non vi è stato danno per l’erario né in termini di immagine né in termini di spese, archivia l’espost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990360"/>
            <a:ext cx="6629400" cy="1600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UDIO DI CAS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ORSO AL T.A.R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ch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POSTO ALLA CORTE DEI CONTI contro il silenzio-rigetto di una richiesta di accesso agli att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31520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SIGNOR MARIO ROSSI PRESENTA IN DATA 29.6.2003 RICORSO AL TAR TERRITORIALMENTE COMPETENTE nonché un ESPOSTO ALLA CORTE DEI CONTI DELLA REGIONE con i qua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UGNA IL SILENZIO-RIGETTO con il quale la scuola non ha accolto la sua domanda di accesso ai documenti di clas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NUNCIA L’ACCADUTO ALLA CORTE DEI CO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497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ALI LE CENSURE DEDOTTE DAL RICORREN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772400" cy="541008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Sig. Rossi ha presentato alla Segreteria della scuola in data 30.5.2003 istanza di accesso agli atti ai sensi della </a:t>
            </a:r>
            <a:r>
              <a:rPr b="0" lang="it-IT" sz="2800" spc="-1" strike="noStrike" u="sng">
                <a:solidFill>
                  <a:srgbClr val="1c1c1c"/>
                </a:solidFill>
                <a:uFillTx/>
                <a:latin typeface="Times New Roman"/>
                <a:hlinkClick r:id="rId2"/>
              </a:rPr>
              <a:t>L. 7.8.1990 N° 241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chiedendo copia dei documenti scolastici che riguardavano la classe del figlio per “poter verificare l’attività amministrativa posta in essere dal Consiglio di classe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egreteria ha trasmesso tale richiesta al Preside in data 25.6.200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Preside ha comunicato al Sig. Rossi in data 27.6.2003 che, avendo ricevuto la richiesta in data 25.6, avrebbe risposto alla stessa entro il 20.7.2003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076960" cy="5105520"/>
          </a:xfrm>
          <a:prstGeom prst="rect">
            <a:avLst/>
          </a:prstGeom>
          <a:noFill/>
          <a:ln cap="sq"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sig. Rossi sostiene nel ricorso al T.A.R. dd. 29.6.2003 che, essendo trascorsi i 30 giorni  previsti  dall’art. 25  c. 4  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1c1c1c"/>
                </a:solidFill>
                <a:uFillTx/>
                <a:latin typeface="Times New Roman"/>
                <a:hlinkClick r:id="rId2"/>
              </a:rPr>
              <a:t>L. 241/90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si è perfezionato il silenzio-rigetto da parte dell’amministrazione e contro di esso ricor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li denuncia inoltre nell’esposto alla Corte dei Conti il comportamento dell’Amministrazione perché verifichi se lo stesso abbia causato danni all’er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638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l T.A.R. accoglie il ricorso del sig. Rossi ed ordina alla scuola l’esibizione di quanto richiesto, ponendo le spese a carico dell’Amministrazi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3059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Direzione regionale del M.I.U.R. con il patrocinio dell’Avvocatura distrettuale dello Stato ricorre al Consiglio di Stato eccependo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 lo scopo degli artt. 22 e seguenti della </a:t>
            </a:r>
            <a:r>
              <a:rPr b="0" lang="en-US" sz="2800" spc="-1" strike="noStrike" u="sng">
                <a:solidFill>
                  <a:srgbClr val="1c1c1c"/>
                </a:solidFill>
                <a:uFillTx/>
                <a:latin typeface="Times New Roman"/>
                <a:hlinkClick r:id="rId2"/>
              </a:rPr>
              <a:t>L. 241/199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 è quello di consentire a chiunque un control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enerico dell’attività della P.A., bensì quello d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icurare al titolare di una posizione legittiman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quanto meno di un interesse legittimo) la possibilità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 accedere alla documentazione necessaria per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iuta tutela di tale diritto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esigenza di tutelare la riservatezza degli alt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unni prevale sulla trasparenza della ostensione de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i richie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579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onsiglio di Stato segue il ragionamento:</a:t>
            </a:r>
            <a:br>
              <a:rPr sz="28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’art. 22 della </a:t>
            </a:r>
            <a:r>
              <a:rPr b="0" lang="it-IT" sz="2400" spc="-1" strike="noStrike" u="sng">
                <a:solidFill>
                  <a:srgbClr val="1c1c1c"/>
                </a:solidFill>
                <a:uFillTx/>
                <a:latin typeface="Times New Roman"/>
                <a:hlinkClick r:id="rId2"/>
              </a:rPr>
              <a:t>L. 241/199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uisce che “il diritto di accesso è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onosciuto a chiunque vi abbia interesse per la tutela d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tuazioni giuridicamente rilevanti” al fine di assicurare 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sparenza dell’attività amministrativa e di favorirne l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volgimento imparziale;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“Giuridicamente rilevante” non significa però che esso debb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sere obbligatoriamente subordinato all’interesse di pote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orrere al giudice amm.vo avverso un atto lesivo d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izione soggettiva vantata;</a:t>
            </a:r>
            <a:br>
              <a:rPr sz="2400"/>
            </a:b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7238880"/>
            <a:ext cx="7238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2:13Z</dcterms:created>
  <dc:creator>pavatti</dc:creator>
  <dc:description/>
  <dc:language>en-US</dc:language>
  <cp:lastModifiedBy>bullo</cp:lastModifiedBy>
  <dcterms:modified xsi:type="dcterms:W3CDTF">2004-05-11T10:57:30Z</dcterms:modified>
  <cp:revision>60</cp:revision>
  <dc:subject/>
  <dc:title>STUDIO DI CASO</dc:title>
</cp:coreProperties>
</file>